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968-368E-4B6B-9D45-E1F24615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313-26F9-49A0-81AA-C459CF70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D16-7DF6-4BA2-B548-AF4D6526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FC0-4907-4244-8FD1-11F564FE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123-AFD5-4D82-BEE8-E70B2DBF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932-7B99-496B-B147-8745BA12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98D-3BA5-4D4E-8976-755B0B31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BCC-557A-47C4-8BFA-3CE94481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AD1-494A-46E4-98CC-B1E6E813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AA2-DFC6-4AB8-B74F-E3B821D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2BA-B68C-4263-97F5-6DDCDA31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3E5-F627-48F9-99F1-52D6DF7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228-8866-4651-AED0-7D0D81F4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irstpeople.us/FP-Html-Pictures/bears_pg01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Lucida Bright"/>
              </a:rPr>
              <a:t>T</a:t>
            </a:r>
            <a:r>
              <a:rPr b="0" lang="en-US" sz="4400" spc="-1" strike="noStrike">
                <a:solidFill>
                  <a:srgbClr val="00cc00"/>
                </a:solidFill>
                <a:latin typeface="Lucida Bright"/>
              </a:rPr>
              <a:t>emperate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Gina Medb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Jacob Cha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Lucida Bright"/>
              </a:rPr>
              <a:t>Brittney Bart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How can we save the temperate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kind of trees live in the deciduous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types of animals are found 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ere can temperate forests be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is the annual precipitation amou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Name one organism &amp; its adaptation to the fo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hat kind of resources can we get from the deciduous fo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eeac2"/>
            </a:gs>
            <a:gs pos="100000">
              <a:srgbClr val="ff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fao.org/forestry/docrep/wfcxi/PUBLI/V6/T382E/3-2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forestinfo.org/discovery/misc.htm#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enchantedlearning.com/biomes/tempdecid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blueplanetbiomes.org/world_biomes.ht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http://www.usmp.berkeley.edu/exhibits/biomes/index.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BIOLOGY, Campbell &amp; Ree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Bright"/>
              </a:rPr>
              <a:t>Biology-The Dynamics of Life, Glenco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Jacob: questions 1, 2, &amp;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Brittney: questions 4, 5,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Gina: questions 7, 8, &amp;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Bright"/>
              </a:rPr>
              <a:t>Where can this biome be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Deciduous forests can be found in Eastern parts of North America, in the middle of Europe, and in eastern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Geologic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Beneath the soil there are layers of c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Temperate Forest is usually near rivers, ponds, and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Has very fertile soil because of decaying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Temperature &amp;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average temperature of the deciduous forest is about -30</a:t>
            </a:r>
            <a:r>
              <a:rPr b="0" lang="en-US" sz="3200" spc="-1" strike="noStrike">
                <a:solidFill>
                  <a:srgbClr val="000000"/>
                </a:solidFill>
                <a:latin typeface="Lucida Bright"/>
                <a:ea typeface="Arial"/>
              </a:rPr>
              <a:t>˚C- 30˚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The average rainfall is about 30-100 in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Temperate forest photos"/>
          <p:cNvPicPr/>
          <p:nvPr/>
        </p:nvPicPr>
        <p:blipFill>
          <a:blip r:embed="rId1"/>
          <a:stretch/>
        </p:blipFill>
        <p:spPr>
          <a:xfrm>
            <a:off x="0" y="4419720"/>
            <a:ext cx="9144000" cy="208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6634" r="-2436" b="3803"/>
          <a:stretch/>
        </p:blipFill>
        <p:spPr>
          <a:xfrm>
            <a:off x="2971800" y="441972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Maple, Oak, Birch, and Elm trees are just a few different types of trees located in the deciduous forest, that house birds, &amp; different typ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Shrubs and herbs live on the forest floor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31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Types of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Northern Cardinal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Easily spotted, red song bird. It is from the Eastern United States, such as the deciduous fo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Black Bear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Large, mostly harmless bears. They hibernate in the winter, &amp; are found across North Ame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Bright"/>
              </a:rPr>
              <a:t>Frog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: Amphibians are animals that spend part of their lives under the water, and the remainder on land. Starting as a tadpole, it eventually grow into a mature fr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During winter, trees in the temperate forest lose their leaves, so they don’t freeze and to conserve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Bears in the winter develop extra fat and fur to keep themselves warmer during their hiber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Bright"/>
              </a:rPr>
              <a:t>In the deciduous forest trees lean towards the sun to receive more light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lack Bear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73392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Human Impact &amp;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Endangering the Deciduous Forest, humans cut down trees for paper products, plow land for agricultural purposes, &amp; build residential &amp; commerci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To ensure survival of the Temperate Forest we could carpool more to decrease fuel emission, and cut down less trees to conserve the area for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Bright"/>
              </a:rPr>
              <a:t>Value of Temperate For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To make money off of this biome people may cut down trees to produce paper, &amp; many w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Many people also hunt animals for their fur and for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11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3:05:45Z</dcterms:created>
  <dc:creator>xpstudent</dc:creator>
  <dc:description/>
  <dc:language>en-US</dc:language>
  <cp:lastModifiedBy>xpstudent</cp:lastModifiedBy>
  <dcterms:modified xsi:type="dcterms:W3CDTF">2010-10-28T13:01:41Z</dcterms:modified>
  <cp:revision>4</cp:revision>
  <dc:subject/>
  <dc:title>Temperate Forest</dc:title>
</cp:coreProperties>
</file>